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F56-723B-47E5-8ADE-457F981FA7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4FE-F939-4CB6-8AA9-3755BAF07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8069F4-8393-44D6-AE17-BE799F18D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A9D8-1ED4-413D-A0C5-347FBF2776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3D17-D817-4CA7-9BCF-88DAD080D7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24C-9B77-450F-9BDF-7A7BB7E327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3CE-3FDE-4BE7-9B41-4D7C644D07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D7A-175B-4111-B765-487009753A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B29-5650-40FE-A6CF-C72F62ADDD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328-2AE0-4E7E-9F5A-A63E0DF88E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8962-2CCD-4130-B153-B5097D8A6B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28A-5B90-49C8-B78D-031A2BE5038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22A9-B9E1-41AF-B7A7-9C9424227DE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B0CE-11D6-412A-8EA6-7373A05C86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C6AD-90A8-4555-AE36-288F166750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7BA-8EB1-485C-B38A-F35B1CC8FF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52AA5F-9A8E-4AC2-8A13-A32039687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9F9-DAD8-4395-B694-46B86B5DE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B432FC-C8A4-4F61-B7E2-30668E687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4B4-2190-4899-B043-B828349407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D1B-BC4E-420F-9936-CF42B11958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6D23-7DF7-4640-8DEC-0DE60EE217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BB4-D9C8-4AE3-8110-4A192E4B9F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A43-788C-435F-809A-A1AFEEAAB0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550C-9F97-4E48-8A80-5345E6EB7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AAB1-B112-46C4-9E1B-FF8DA7BF3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31C9-505A-4115-8811-1E6441852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CF62-B6B9-4391-BF70-43A3DC3A4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E27B-377F-4B20-9A4C-C31A910AE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C969-B7D7-41C0-BC7F-2AD2E52D34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0148-50A4-4C18-B122-0A75E82477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86FF-7B8C-4EC8-AB63-E0EAC2FB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3A93-A3D5-459E-BAA4-62ED1B5C25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D14D1-5ED9-4C1F-9D55-04FF078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CFAD-DDEA-4CFA-9C42-C20013EC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1E4F-8FBB-453A-9863-8F0B1576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EEE15-157D-4230-9FCD-C1A7F21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E14F-561E-4117-9689-27E813E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A8940-B935-44D7-AEEE-8668032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BCE76-42A6-4059-9792-1174B82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51EBB-6782-4D3A-87BD-D45E3EF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08FE-5723-4908-B418-DF9CCA05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F54D8-B10D-45C0-94C3-D2889FF9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6DBB-B5D2-4346-A136-F901605C0D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3FB7-113D-45DA-8FF7-1B7E4578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F419-6EBC-42CC-B512-248CBC3D25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A3ED-76AD-4D73-9060-A075078231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DC33-B7A6-42ED-B01D-775BA0FB0F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42B9-24D3-4189-98D2-544C7903A96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F773-B6F2-4D4C-B65E-EB944664B837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21D1-AA8B-40DE-8079-F903085BC813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70C-6170-4E6E-AFCC-06C167974A09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7D5-50EA-4602-9C9C-7DF8FE05D2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9561-EE54-4BFF-864F-D8F215951D4F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B57-41FA-41FF-920B-27F47CCF6B05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65A-BE31-45CD-9BF7-F51DDE0E6BB4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  <a:ea typeface="ＭＳ Ｐゴシック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4: Pipelining Issues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63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422280" y="1295280"/>
          <a:ext cx="84168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295280"/>
                    <a:ext cx="84168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Introduces another data dependency in Decode stage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32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2" name="Object 2"/>
          <p:cNvGraphicFramePr/>
          <p:nvPr/>
        </p:nvGraphicFramePr>
        <p:xfrm>
          <a:off x="-19080" y="1311120"/>
          <a:ext cx="8248680" cy="35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311120"/>
                    <a:ext cx="8248680" cy="35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arly Branch Resolution: Good Idea?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6360" y="1361880"/>
            <a:ext cx="8442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branch misprediction penal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CPI (cycles per instr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tential increase in clock cycle ti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r Tclock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hardware co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alized and likely not used by other instru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 for Early Branch Re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Object 2"/>
          <p:cNvGraphicFramePr/>
          <p:nvPr/>
        </p:nvGraphicFramePr>
        <p:xfrm>
          <a:off x="415800" y="1295280"/>
          <a:ext cx="842328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295280"/>
                    <a:ext cx="842328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1e5b"/>
                </a:solidFill>
                <a:latin typeface="Calibri"/>
              </a:rPr>
              <a:t>Data forwarding for early branch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40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Forwarding and 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79520" y="1361880"/>
            <a:ext cx="7896240" cy="4971960"/>
          </a:xfrm>
          <a:prstGeom prst="rect">
            <a:avLst/>
          </a:prstGeom>
          <a:solidFill>
            <a:srgbClr val="f6f5bd"/>
          </a:solidFill>
          <a:ln w="9360">
            <a:solidFill>
              <a:srgbClr val="61570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Forward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AD =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orwardBD =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!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M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Stalling logic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lwstall = ((rs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(rt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E)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E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 = 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egWrite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(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E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BranchD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Memto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&amp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(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sD | WriteRegM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rtD))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03232"/>
                </a:solidFill>
                <a:latin typeface="Consolas"/>
                <a:ea typeface="Consolas"/>
              </a:rPr>
              <a:t>// Stall signals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F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StallD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assig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FLushE = lwstall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  <a:ea typeface="Consolas"/>
              </a:rPr>
              <a:t> branchstall;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481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ing Better: Smarter Branch Predi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ess whether branch will be take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ward branches are usually taken (loo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history of whether branch was previously taken to improve the gu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od prediction reduces the fraction of branches requiring a flush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NT2006 benchmark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 sto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% bran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% j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2% R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se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 of loads used by next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5% of branches mispred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 jumps flush next instruc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average CP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6360" y="1361880"/>
            <a:ext cx="813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253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 Solu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6720" y="1361880"/>
            <a:ext cx="8213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/Branch CPI = 1 when no stall/flush, 2 when stall/flu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6) + 2(0.4) = 1.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(0.75) + 2(0.25) = 1.2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Average CPI for bran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verage CPI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25)(1.4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)(1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st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11)(1.25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beq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02)(2)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jum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0.52)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r-typ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=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revious 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and Microprogrammed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Yester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DAE-2917-4FB7-8F11-B6EAABA56DB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6720" y="1361880"/>
            <a:ext cx="87472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5 stages, and 5 different timing paths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= max {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fetch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decod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ALU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execute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em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memory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2(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pcq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0" lang="de-CH" sz="2400" spc="-1" strike="noStrike" baseline="-25000">
                <a:solidFill>
                  <a:srgbClr val="000000"/>
                </a:solidFill>
                <a:latin typeface="Calibri"/>
              </a:rPr>
              <a:t>RFwrite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de-CH" sz="2000" spc="-1" strike="noStrike">
                <a:solidFill>
                  <a:srgbClr val="a81e5b"/>
                </a:solidFill>
                <a:latin typeface="Calibri"/>
              </a:rPr>
              <a:t>writeback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peration speed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depends</a:t>
            </a:r>
            <a:r>
              <a:rPr b="0" lang="en-US" sz="24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slowest operation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ode and Writeback use register file and have only half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ck cycle to complete, that is why there is a 2 in front of the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254320" y="2851200"/>
            <a:ext cx="502920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96720" y="1362240"/>
          <a:ext cx="7896240" cy="4209840"/>
        </p:xfrm>
        <a:graphic>
          <a:graphicData uri="http://schemas.openxmlformats.org/drawingml/2006/table">
            <a:tbl>
              <a:tblPr/>
              <a:tblGrid>
                <a:gridCol w="3990960"/>
                <a:gridCol w="1649520"/>
                <a:gridCol w="2255760"/>
              </a:tblGrid>
              <a:tr h="35100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ay (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clock-to-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pcq_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ex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u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se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lity compa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eq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ory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em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86640"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file 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RFwr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4040" rIns="104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445" name=""/>
          <p:cNvSpPr txBox="1"/>
          <p:nvPr/>
        </p:nvSpPr>
        <p:spPr>
          <a:xfrm>
            <a:off x="404640" y="5638320"/>
            <a:ext cx="7896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(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RFrea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eq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AND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mux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+ t</a:t>
            </a:r>
            <a:r>
              <a:rPr b="1" lang="de-CH" sz="2400" spc="-1" strike="noStrike" baseline="-25000">
                <a:solidFill>
                  <a:srgbClr val="000000"/>
                </a:solidFill>
                <a:latin typeface="Calibri"/>
              </a:rPr>
              <a:t>setup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2[150 + 25 + 40 + 15 + 25 + 20] p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Calibri"/>
              </a:rPr>
              <a:t>= 550 p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6"/>
          <p:cNvSpPr/>
          <p:nvPr/>
        </p:nvSpPr>
        <p:spPr>
          <a:xfrm>
            <a:off x="1828800" y="55627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pelined Performa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a program with 100 billion instructions executing on a pipelined MIPS processo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PI = 1.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55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ecution Ti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# instructions) × CPI ×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(10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(1.15)(550 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63 second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formance Summary for MIPS arch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96720" y="1362240"/>
          <a:ext cx="7896240" cy="1952640"/>
        </p:xfrm>
        <a:graphic>
          <a:graphicData uri="http://schemas.openxmlformats.org/drawingml/2006/table">
            <a:tbl>
              <a:tblPr/>
              <a:tblGrid>
                <a:gridCol w="1843200"/>
                <a:gridCol w="2287800"/>
                <a:gridCol w="3765240"/>
              </a:tblGrid>
              <a:tr h="765000"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ecu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con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  <a:tc>
                  <a:txBody>
                    <a:bodyPr lIns="105120" rIns="10512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ed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ingle-cycle is 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b3735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-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7e8"/>
                    </a:solidFill>
                  </a:tcPr>
                </a:tc>
              </a:tr>
              <a:tr h="396720"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  <a:tc>
                  <a:txBody>
                    <a:bodyPr lIns="105120" rIns="105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120" marR="10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cccd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 txBox="1"/>
          <p:nvPr/>
        </p:nvSpPr>
        <p:spPr>
          <a:xfrm>
            <a:off x="404640" y="3885840"/>
            <a:ext cx="78962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stest of the three MIPS architectures is </a:t>
            </a: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Pipelin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, even though we have 5 fold pipelining, it is not 5 times faster than single cycle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data dependence handl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terlocking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inserts/manages the pipeline bubb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o finds the independent instructions to fill “empty” pipeline slo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advantages/disadvantages of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the performance equation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D88-5BC8-4B55-A2FC-B938E44C61E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Questions to Pond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the role of the hardware vs. the software in the order in which instructions are executed in th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ware based instruction schedul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each impact different metric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ance (and parts of the performance equa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480" indent="-2959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AF4-0F76-4B2A-B806-5EA3FD8EFCC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on Software vs. Hardwa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864720"/>
            <a:ext cx="88390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ftware based scheduling of instruction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stat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orders the instructions, hardware executes them in tha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st this with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ynamic schedul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which hardware can execute instructions out of the compiler-specified ord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e compiler know the latency of each instru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nformation does the compiler not know that makes static scheduling difficul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Anything that is determined at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07480" indent="-277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-length operation latency, memory addr, branch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ow can the compiler alleviate this (i.e., estimate the unknow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Profi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49F-97F8-4770-90D0-3350579656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6480" y="1600200"/>
            <a:ext cx="84279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and Precise Exceptions: Preserving Sequential Semantic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-Cycle Exec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instructions take the same amount of time for “execu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ve multiple different functional units that take different number of cy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pipelined or not pipel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et independent instructions start execution on a different functional unit before a previous long-latency instruction finishes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E184-DC12-4745-8A0B-1329D8A9DAD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3044880" y="5065560"/>
            <a:ext cx="804960" cy="370080"/>
            <a:chOff x="3044880" y="5065560"/>
            <a:chExt cx="804960" cy="370080"/>
          </a:xfrm>
        </p:grpSpPr>
        <p:sp>
          <p:nvSpPr>
            <p:cNvPr id="471" name="Rectangle 10"/>
            <p:cNvSpPr/>
            <p:nvPr/>
          </p:nvSpPr>
          <p:spPr>
            <a:xfrm>
              <a:off x="304488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1"/>
            <p:cNvSpPr/>
            <p:nvPr/>
          </p:nvSpPr>
          <p:spPr>
            <a:xfrm>
              <a:off x="3447360" y="50655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2"/>
          <p:cNvSpPr/>
          <p:nvPr/>
        </p:nvSpPr>
        <p:spPr>
          <a:xfrm>
            <a:off x="4384800" y="4203720"/>
            <a:ext cx="401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8588520" y="49021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9"/>
          <p:cNvGrpSpPr/>
          <p:nvPr/>
        </p:nvGrpSpPr>
        <p:grpSpPr>
          <a:xfrm>
            <a:off x="4384800" y="5251320"/>
            <a:ext cx="3222000" cy="370080"/>
            <a:chOff x="4384800" y="5251320"/>
            <a:chExt cx="3222000" cy="370080"/>
          </a:xfrm>
        </p:grpSpPr>
        <p:sp>
          <p:nvSpPr>
            <p:cNvPr id="476" name="Rectangle 12"/>
            <p:cNvSpPr/>
            <p:nvPr/>
          </p:nvSpPr>
          <p:spPr>
            <a:xfrm>
              <a:off x="438480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47872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2"/>
            <p:cNvSpPr/>
            <p:nvPr/>
          </p:nvSpPr>
          <p:spPr>
            <a:xfrm>
              <a:off x="51901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>
              <a:off x="559296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>
              <a:off x="599580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2"/>
            <p:cNvSpPr/>
            <p:nvPr/>
          </p:nvSpPr>
          <p:spPr>
            <a:xfrm>
              <a:off x="639864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2"/>
            <p:cNvSpPr/>
            <p:nvPr/>
          </p:nvSpPr>
          <p:spPr>
            <a:xfrm>
              <a:off x="6801480" y="52513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7"/>
            <p:cNvSpPr/>
            <p:nvPr/>
          </p:nvSpPr>
          <p:spPr>
            <a:xfrm>
              <a:off x="7204320" y="525132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8"/>
          <p:cNvGrpSpPr/>
          <p:nvPr/>
        </p:nvGrpSpPr>
        <p:grpSpPr>
          <a:xfrm>
            <a:off x="4384800" y="4719600"/>
            <a:ext cx="1611360" cy="374760"/>
            <a:chOff x="4384800" y="4719600"/>
            <a:chExt cx="1611360" cy="374760"/>
          </a:xfrm>
        </p:grpSpPr>
        <p:sp>
          <p:nvSpPr>
            <p:cNvPr id="485" name="Rectangle 12"/>
            <p:cNvSpPr/>
            <p:nvPr/>
          </p:nvSpPr>
          <p:spPr>
            <a:xfrm>
              <a:off x="4384800" y="47239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2"/>
            <p:cNvSpPr/>
            <p:nvPr/>
          </p:nvSpPr>
          <p:spPr>
            <a:xfrm>
              <a:off x="478764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2"/>
            <p:cNvSpPr/>
            <p:nvPr/>
          </p:nvSpPr>
          <p:spPr>
            <a:xfrm>
              <a:off x="519048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2"/>
            <p:cNvSpPr/>
            <p:nvPr/>
          </p:nvSpPr>
          <p:spPr>
            <a:xfrm>
              <a:off x="5593320" y="47196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4384800" y="5621400"/>
            <a:ext cx="3900600" cy="523800"/>
            <a:chOff x="4384800" y="5621400"/>
            <a:chExt cx="3900600" cy="523800"/>
          </a:xfrm>
        </p:grpSpPr>
        <p:grpSp>
          <p:nvGrpSpPr>
            <p:cNvPr id="490" name="Group 24"/>
            <p:cNvGrpSpPr/>
            <p:nvPr/>
          </p:nvGrpSpPr>
          <p:grpSpPr>
            <a:xfrm>
              <a:off x="4384800" y="5774760"/>
              <a:ext cx="3222000" cy="370440"/>
              <a:chOff x="4384800" y="5774760"/>
              <a:chExt cx="3222000" cy="370440"/>
            </a:xfrm>
          </p:grpSpPr>
          <p:sp>
            <p:nvSpPr>
              <p:cNvPr id="491" name="Rectangle 12"/>
              <p:cNvSpPr/>
              <p:nvPr/>
            </p:nvSpPr>
            <p:spPr>
              <a:xfrm>
                <a:off x="4384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2"/>
              <p:cNvSpPr/>
              <p:nvPr/>
            </p:nvSpPr>
            <p:spPr>
              <a:xfrm>
                <a:off x="47872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2"/>
              <p:cNvSpPr/>
              <p:nvPr/>
            </p:nvSpPr>
            <p:spPr>
              <a:xfrm>
                <a:off x="51901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29"/>
              <p:cNvSpPr/>
              <p:nvPr/>
            </p:nvSpPr>
            <p:spPr>
              <a:xfrm>
                <a:off x="559296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2"/>
              <p:cNvSpPr/>
              <p:nvPr/>
            </p:nvSpPr>
            <p:spPr>
              <a:xfrm>
                <a:off x="599580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2"/>
              <p:cNvSpPr/>
              <p:nvPr/>
            </p:nvSpPr>
            <p:spPr>
              <a:xfrm>
                <a:off x="639864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2"/>
              <p:cNvSpPr/>
              <p:nvPr/>
            </p:nvSpPr>
            <p:spPr>
              <a:xfrm>
                <a:off x="680148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3"/>
              <p:cNvSpPr/>
              <p:nvPr/>
            </p:nvSpPr>
            <p:spPr>
              <a:xfrm>
                <a:off x="7204320" y="57747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Box 25"/>
            <p:cNvSpPr/>
            <p:nvPr/>
          </p:nvSpPr>
          <p:spPr>
            <a:xfrm>
              <a:off x="7609320" y="56214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Straight Connector 34"/>
          <p:cNvSpPr/>
          <p:nvPr/>
        </p:nvSpPr>
        <p:spPr>
          <a:xfrm>
            <a:off x="3849840" y="52513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35"/>
          <p:cNvSpPr/>
          <p:nvPr/>
        </p:nvSpPr>
        <p:spPr>
          <a:xfrm flipH="1">
            <a:off x="4092120" y="436248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Straight Arrow Connector 36"/>
          <p:cNvCxnSpPr/>
          <p:nvPr/>
        </p:nvCxnSpPr>
        <p:spPr>
          <a:xfrm>
            <a:off x="4093920" y="5969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Straight Arrow Connector 37"/>
          <p:cNvCxnSpPr/>
          <p:nvPr/>
        </p:nvCxnSpPr>
        <p:spPr>
          <a:xfrm>
            <a:off x="4093920" y="5435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traight Arrow Connector 38"/>
          <p:cNvCxnSpPr/>
          <p:nvPr/>
        </p:nvCxnSpPr>
        <p:spPr>
          <a:xfrm>
            <a:off x="4102200" y="4362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Straight Arrow Connector 39"/>
          <p:cNvCxnSpPr/>
          <p:nvPr/>
        </p:nvCxnSpPr>
        <p:spPr>
          <a:xfrm>
            <a:off x="4100040" y="4908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Straight Connector 40"/>
          <p:cNvSpPr/>
          <p:nvPr/>
        </p:nvSpPr>
        <p:spPr>
          <a:xfrm flipH="1">
            <a:off x="8376840" y="4363920"/>
            <a:ext cx="1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Straight Arrow Connector 41"/>
          <p:cNvCxnSpPr/>
          <p:nvPr/>
        </p:nvCxnSpPr>
        <p:spPr>
          <a:xfrm>
            <a:off x="8379000" y="5094360"/>
            <a:ext cx="23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42"/>
          <p:cNvCxnSpPr>
            <a:stCxn id="473" idx="3"/>
          </p:cNvCxnSpPr>
          <p:nvPr/>
        </p:nvCxnSpPr>
        <p:spPr>
          <a:xfrm>
            <a:off x="4786200" y="4389480"/>
            <a:ext cx="359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Straight Arrow Connector 43"/>
          <p:cNvCxnSpPr/>
          <p:nvPr/>
        </p:nvCxnSpPr>
        <p:spPr>
          <a:xfrm>
            <a:off x="5995800" y="49035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Straight Arrow Connector 44"/>
          <p:cNvCxnSpPr/>
          <p:nvPr/>
        </p:nvCxnSpPr>
        <p:spPr>
          <a:xfrm flipV="1">
            <a:off x="7607160" y="5434920"/>
            <a:ext cx="77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1" name="Straight Arrow Connector 45"/>
          <p:cNvCxnSpPr/>
          <p:nvPr/>
        </p:nvCxnSpPr>
        <p:spPr>
          <a:xfrm>
            <a:off x="8176680" y="5970600"/>
            <a:ext cx="202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TextBox 46"/>
          <p:cNvSpPr/>
          <p:nvPr/>
        </p:nvSpPr>
        <p:spPr>
          <a:xfrm>
            <a:off x="4918680" y="41148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7"/>
          <p:cNvSpPr/>
          <p:nvPr/>
        </p:nvSpPr>
        <p:spPr>
          <a:xfrm>
            <a:off x="6117840" y="45100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8"/>
          <p:cNvSpPr/>
          <p:nvPr/>
        </p:nvSpPr>
        <p:spPr>
          <a:xfrm>
            <a:off x="7608600" y="5065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9"/>
          <p:cNvSpPr/>
          <p:nvPr/>
        </p:nvSpPr>
        <p:spPr>
          <a:xfrm>
            <a:off x="7629480" y="61531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8041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ing: 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-Cycle Execu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s can take different number of cycles in EXECUTE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 ADD versus FP MULtip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is wrong with this picture in a Von Neumann architect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quential semantics of the ISA NOT preserve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hat if FMUL incurs an excep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5104-1B9A-4C3D-B11A-BBF6C1D803C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3355920" y="2779560"/>
            <a:ext cx="1611360" cy="370080"/>
            <a:chOff x="3355920" y="2779560"/>
            <a:chExt cx="1611360" cy="370080"/>
          </a:xfrm>
        </p:grpSpPr>
        <p:sp>
          <p:nvSpPr>
            <p:cNvPr id="520" name="Rectangle 10"/>
            <p:cNvSpPr/>
            <p:nvPr/>
          </p:nvSpPr>
          <p:spPr>
            <a:xfrm>
              <a:off x="335592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375876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16160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4564440" y="277956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5"/>
          <p:cNvGrpSpPr/>
          <p:nvPr/>
        </p:nvGrpSpPr>
        <p:grpSpPr>
          <a:xfrm>
            <a:off x="2952720" y="2411280"/>
            <a:ext cx="4430520" cy="368280"/>
            <a:chOff x="2952720" y="2411280"/>
            <a:chExt cx="4430520" cy="368280"/>
          </a:xfrm>
        </p:grpSpPr>
        <p:sp>
          <p:nvSpPr>
            <p:cNvPr id="525" name="Rectangle 5"/>
            <p:cNvSpPr/>
            <p:nvPr/>
          </p:nvSpPr>
          <p:spPr>
            <a:xfrm>
              <a:off x="29527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6"/>
            <p:cNvSpPr/>
            <p:nvPr/>
          </p:nvSpPr>
          <p:spPr>
            <a:xfrm>
              <a:off x="33552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7"/>
            <p:cNvSpPr/>
            <p:nvPr/>
          </p:nvSpPr>
          <p:spPr>
            <a:xfrm>
              <a:off x="37584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6980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41612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5640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7"/>
            <p:cNvSpPr/>
            <p:nvPr/>
          </p:nvSpPr>
          <p:spPr>
            <a:xfrm>
              <a:off x="496692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536976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7"/>
            <p:cNvSpPr/>
            <p:nvPr/>
          </p:nvSpPr>
          <p:spPr>
            <a:xfrm>
              <a:off x="577260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7"/>
            <p:cNvSpPr/>
            <p:nvPr/>
          </p:nvSpPr>
          <p:spPr>
            <a:xfrm>
              <a:off x="617544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7"/>
            <p:cNvSpPr/>
            <p:nvPr/>
          </p:nvSpPr>
          <p:spPr>
            <a:xfrm>
              <a:off x="6578280" y="2411280"/>
              <a:ext cx="402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Box 15"/>
          <p:cNvSpPr/>
          <p:nvPr/>
        </p:nvSpPr>
        <p:spPr>
          <a:xfrm>
            <a:off x="412560" y="2467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3759120" y="3149640"/>
            <a:ext cx="1611360" cy="368280"/>
            <a:chOff x="3759120" y="3149640"/>
            <a:chExt cx="1611360" cy="368280"/>
          </a:xfrm>
        </p:grpSpPr>
        <p:sp>
          <p:nvSpPr>
            <p:cNvPr id="538" name="Rectangle 10"/>
            <p:cNvSpPr/>
            <p:nvPr/>
          </p:nvSpPr>
          <p:spPr>
            <a:xfrm>
              <a:off x="375912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416196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2"/>
            <p:cNvSpPr/>
            <p:nvPr/>
          </p:nvSpPr>
          <p:spPr>
            <a:xfrm>
              <a:off x="456480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3"/>
            <p:cNvSpPr/>
            <p:nvPr/>
          </p:nvSpPr>
          <p:spPr>
            <a:xfrm>
              <a:off x="4967640" y="314964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9"/>
          <p:cNvGrpSpPr/>
          <p:nvPr/>
        </p:nvGrpSpPr>
        <p:grpSpPr>
          <a:xfrm>
            <a:off x="4162320" y="3517920"/>
            <a:ext cx="1611360" cy="369720"/>
            <a:chOff x="4162320" y="3517920"/>
            <a:chExt cx="1611360" cy="369720"/>
          </a:xfrm>
        </p:grpSpPr>
        <p:sp>
          <p:nvSpPr>
            <p:cNvPr id="543" name="Rectangle 10"/>
            <p:cNvSpPr/>
            <p:nvPr/>
          </p:nvSpPr>
          <p:spPr>
            <a:xfrm>
              <a:off x="416232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456516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496800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5370840" y="35179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9"/>
          <p:cNvGrpSpPr/>
          <p:nvPr/>
        </p:nvGrpSpPr>
        <p:grpSpPr>
          <a:xfrm>
            <a:off x="4967280" y="4257720"/>
            <a:ext cx="1611360" cy="368280"/>
            <a:chOff x="4967280" y="4257720"/>
            <a:chExt cx="1611360" cy="368280"/>
          </a:xfrm>
        </p:grpSpPr>
        <p:sp>
          <p:nvSpPr>
            <p:cNvPr id="548" name="Rectangle 10"/>
            <p:cNvSpPr/>
            <p:nvPr/>
          </p:nvSpPr>
          <p:spPr>
            <a:xfrm>
              <a:off x="496728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537012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>
              <a:off x="577296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"/>
            <p:cNvSpPr/>
            <p:nvPr/>
          </p:nvSpPr>
          <p:spPr>
            <a:xfrm>
              <a:off x="6175800" y="425772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9"/>
          <p:cNvGrpSpPr/>
          <p:nvPr/>
        </p:nvGrpSpPr>
        <p:grpSpPr>
          <a:xfrm>
            <a:off x="5370480" y="4630680"/>
            <a:ext cx="1611360" cy="370080"/>
            <a:chOff x="5370480" y="4630680"/>
            <a:chExt cx="1611360" cy="370080"/>
          </a:xfrm>
        </p:grpSpPr>
        <p:sp>
          <p:nvSpPr>
            <p:cNvPr id="553" name="Rectangle 10"/>
            <p:cNvSpPr/>
            <p:nvPr/>
          </p:nvSpPr>
          <p:spPr>
            <a:xfrm>
              <a:off x="537048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"/>
            <p:cNvSpPr/>
            <p:nvPr/>
          </p:nvSpPr>
          <p:spPr>
            <a:xfrm>
              <a:off x="577332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2"/>
            <p:cNvSpPr/>
            <p:nvPr/>
          </p:nvSpPr>
          <p:spPr>
            <a:xfrm>
              <a:off x="617616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3"/>
            <p:cNvSpPr/>
            <p:nvPr/>
          </p:nvSpPr>
          <p:spPr>
            <a:xfrm>
              <a:off x="6579000" y="46306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Box 15"/>
          <p:cNvSpPr/>
          <p:nvPr/>
        </p:nvSpPr>
        <p:spPr>
          <a:xfrm>
            <a:off x="425880" y="39798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5, 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56"/>
          <p:cNvGrpSpPr/>
          <p:nvPr/>
        </p:nvGrpSpPr>
        <p:grpSpPr>
          <a:xfrm>
            <a:off x="4564080" y="3887640"/>
            <a:ext cx="4430520" cy="370080"/>
            <a:chOff x="4564080" y="3887640"/>
            <a:chExt cx="4430520" cy="370080"/>
          </a:xfrm>
        </p:grpSpPr>
        <p:sp>
          <p:nvSpPr>
            <p:cNvPr id="559" name="Rectangle 5"/>
            <p:cNvSpPr/>
            <p:nvPr/>
          </p:nvSpPr>
          <p:spPr>
            <a:xfrm>
              <a:off x="4564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49665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53694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85921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7"/>
            <p:cNvSpPr/>
            <p:nvPr/>
          </p:nvSpPr>
          <p:spPr>
            <a:xfrm>
              <a:off x="57722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61750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657792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>
              <a:off x="698076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7"/>
            <p:cNvSpPr/>
            <p:nvPr/>
          </p:nvSpPr>
          <p:spPr>
            <a:xfrm>
              <a:off x="738360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778644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7"/>
            <p:cNvSpPr/>
            <p:nvPr/>
          </p:nvSpPr>
          <p:spPr>
            <a:xfrm>
              <a:off x="8189280" y="388764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 for This Week and Next We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5: Pipelined Process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1-7.8.3: Pipelining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4-7.8.5, 7.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16B8-782D-4E97-8273-F8B68B1D3AA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xceptions vs. 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837720"/>
            <a:ext cx="861048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in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external to the running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en to Han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: when detected (and known to be non-speculati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s: when conven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7920" indent="-2808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 for very high priority 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1720" indent="-2527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071720" indent="-2527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check (err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depends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ocess (exception), system (interrup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5680" indent="-260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B8B2-5DC5-46B4-A08F-3A89506DC47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ecise Exceptions/Interrup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architectural state should be consistent (precise)    when the exception/interrupt is ready to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All previous instructions should be completely ret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No later instruction should be retir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 = commit = finish execution and update arch.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F337-82DF-4923-A978-AC1BDB2D801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Checking for and Handling Exceptions in Pipelining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ldest instruction ready-to-be-retired is detected to have caused an 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 control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architectural state is precise (register file, PC, mem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ushes all younger instructions in the 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s PC and registers (as specified by the IS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320" indent="-2991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s the fetch engine to the appropriate exception handling rout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18B4-5C04-4B45-8168-A72D550889F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y Do We Want Precise Exception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of the von Neumann model ISA specifie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 von Neumann vs. Datafl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software 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y) recovery fro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(easily) restartabl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traps into software (e.g., software implemented opc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DB0-D833-4473-A8E5-EB420EA42E0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Ensuring Precise Exceptions in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Make each operation take the sam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st-case instruction latency determines all instructions’ la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memory oper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functional unit takes worst-case number of cycl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8CA4-1EC1-45A8-949C-B97672F26AD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312120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1"/>
          <p:cNvSpPr/>
          <p:nvPr/>
        </p:nvSpPr>
        <p:spPr>
          <a:xfrm>
            <a:off x="347832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633744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3"/>
          <p:cNvSpPr/>
          <p:nvPr/>
        </p:nvSpPr>
        <p:spPr>
          <a:xfrm>
            <a:off x="6694560" y="20653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76372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12120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4783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37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354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419256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54968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4906800" y="17496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526572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622840" y="17496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5979960" y="17496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34783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3835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6694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7051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3835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4192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7051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408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54968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4906800" y="33289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776772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8124840" y="33289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4906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5265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812484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8481960" y="36450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4192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4549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7408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7767720" y="301608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354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419256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454968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906800" y="205884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26572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5622840" y="205884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5979960" y="205884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19256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54968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4906800" y="23814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526572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56228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5979960" y="23814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337440" y="23814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454968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4906800" y="269712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526572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6228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5979960" y="269712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633744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6694560" y="269712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906800" y="301320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526572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56228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5979960" y="301320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633744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669456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051680" y="301320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26572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56228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5979960" y="3332160"/>
            <a:ext cx="35748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633744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69456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051680" y="3332160"/>
            <a:ext cx="3571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7408800" y="3332160"/>
            <a:ext cx="3589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6228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5979960" y="3648240"/>
            <a:ext cx="3574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633744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669456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705168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408800" y="3648240"/>
            <a:ext cx="358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767720" y="3648240"/>
            <a:ext cx="3571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5"/>
          <p:cNvSpPr/>
          <p:nvPr/>
        </p:nvSpPr>
        <p:spPr>
          <a:xfrm>
            <a:off x="353880" y="176220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UL R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R4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1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 and Plezsku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mplementing Precise Interrupts in Pipelined Processors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EEE Trans on Computers 1988 and ISCA 198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58B3-5CBE-44FE-9110-13AD9311208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152280" y="977760"/>
            <a:ext cx="2743200" cy="533520"/>
          </a:xfrm>
          <a:prstGeom prst="rect">
            <a:avLst/>
          </a:prstGeom>
          <a:noFill/>
          <a:ln w="38160">
            <a:solidFill>
              <a:srgbClr val="2c612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152280" y="1905120"/>
            <a:ext cx="31244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"/>
          <p:cNvSpPr/>
          <p:nvPr/>
        </p:nvSpPr>
        <p:spPr>
          <a:xfrm>
            <a:off x="3442320" y="2666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tion I: Reorder Buffer (ROB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omplete instructions out-of-order, but reorder them before making results visible to architectural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is decoded it reserves the next-sequential entry in the R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completes, it writes result into ROB e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struction oldest in ROB and it has completed without exceptions, its result moved to reg. file o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E87-63FF-4A14-B2A5-BAC3950E524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2"/>
          <p:cNvSpPr/>
          <p:nvPr/>
        </p:nvSpPr>
        <p:spPr>
          <a:xfrm>
            <a:off x="2890800" y="434484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63"/>
          <p:cNvSpPr/>
          <p:nvPr/>
        </p:nvSpPr>
        <p:spPr>
          <a:xfrm>
            <a:off x="2944440" y="4659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4"/>
          <p:cNvSpPr/>
          <p:nvPr/>
        </p:nvSpPr>
        <p:spPr>
          <a:xfrm>
            <a:off x="5000760" y="4255920"/>
            <a:ext cx="1117440" cy="43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5"/>
          <p:cNvSpPr/>
          <p:nvPr/>
        </p:nvSpPr>
        <p:spPr>
          <a:xfrm>
            <a:off x="5000760" y="4875120"/>
            <a:ext cx="11174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6"/>
          <p:cNvSpPr/>
          <p:nvPr/>
        </p:nvSpPr>
        <p:spPr>
          <a:xfrm>
            <a:off x="5000760" y="5457960"/>
            <a:ext cx="111744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67"/>
          <p:cNvSpPr/>
          <p:nvPr/>
        </p:nvSpPr>
        <p:spPr>
          <a:xfrm>
            <a:off x="4953600" y="4302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68"/>
          <p:cNvSpPr/>
          <p:nvPr/>
        </p:nvSpPr>
        <p:spPr>
          <a:xfrm>
            <a:off x="4977360" y="4898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69"/>
          <p:cNvSpPr/>
          <p:nvPr/>
        </p:nvSpPr>
        <p:spPr>
          <a:xfrm>
            <a:off x="4972680" y="54943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0"/>
          <p:cNvSpPr/>
          <p:nvPr/>
        </p:nvSpPr>
        <p:spPr>
          <a:xfrm>
            <a:off x="7157880" y="440388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7202160" y="4722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73"/>
          <p:cNvSpPr/>
          <p:nvPr/>
        </p:nvSpPr>
        <p:spPr>
          <a:xfrm>
            <a:off x="6705720" y="448776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Straight Arrow Connector 75"/>
          <p:cNvCxnSpPr>
            <a:stCxn id="677" idx="3"/>
          </p:cNvCxnSpPr>
          <p:nvPr/>
        </p:nvCxnSpPr>
        <p:spPr>
          <a:xfrm>
            <a:off x="6118200" y="4487400"/>
            <a:ext cx="58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4" name="Straight Arrow Connector 77"/>
          <p:cNvCxnSpPr>
            <a:stCxn id="678" idx="3"/>
          </p:cNvCxnSpPr>
          <p:nvPr/>
        </p:nvCxnSpPr>
        <p:spPr>
          <a:xfrm>
            <a:off x="6141960" y="508284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5" name="Straight Arrow Connector 79"/>
          <p:cNvCxnSpPr>
            <a:stCxn id="679" idx="3"/>
          </p:cNvCxnSpPr>
          <p:nvPr/>
        </p:nvCxnSpPr>
        <p:spPr>
          <a:xfrm flipV="1">
            <a:off x="6136920" y="5665320"/>
            <a:ext cx="568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6" name="Straight Arrow Connector 83"/>
          <p:cNvCxnSpPr/>
          <p:nvPr/>
        </p:nvCxnSpPr>
        <p:spPr>
          <a:xfrm flipV="1">
            <a:off x="6705720" y="508248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7" name="Straight Connector 87"/>
          <p:cNvSpPr/>
          <p:nvPr/>
        </p:nvSpPr>
        <p:spPr>
          <a:xfrm flipH="1">
            <a:off x="7711920" y="5864400"/>
            <a:ext cx="50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89"/>
          <p:cNvSpPr/>
          <p:nvPr/>
        </p:nvSpPr>
        <p:spPr>
          <a:xfrm flipH="1" flipV="1">
            <a:off x="3425760" y="6246360"/>
            <a:ext cx="428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9" name="Straight Arrow Connector 91"/>
          <p:cNvCxnSpPr/>
          <p:nvPr/>
        </p:nvCxnSpPr>
        <p:spPr>
          <a:xfrm flipV="1">
            <a:off x="3424680" y="580356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0" name="Straight Connector 96"/>
          <p:cNvSpPr/>
          <p:nvPr/>
        </p:nvSpPr>
        <p:spPr>
          <a:xfrm>
            <a:off x="4008600" y="5073480"/>
            <a:ext cx="406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0"/>
          <p:cNvSpPr/>
          <p:nvPr/>
        </p:nvSpPr>
        <p:spPr>
          <a:xfrm>
            <a:off x="4414680" y="449892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Straight Arrow Connector 101"/>
          <p:cNvCxnSpPr/>
          <p:nvPr/>
        </p:nvCxnSpPr>
        <p:spPr>
          <a:xfrm>
            <a:off x="4414680" y="448416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3" name="Straight Arrow Connector 102"/>
          <p:cNvCxnSpPr/>
          <p:nvPr/>
        </p:nvCxnSpPr>
        <p:spPr>
          <a:xfrm>
            <a:off x="4438440" y="5081400"/>
            <a:ext cx="56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Straight Arrow Connector 103"/>
          <p:cNvCxnSpPr/>
          <p:nvPr/>
        </p:nvCxnSpPr>
        <p:spPr>
          <a:xfrm>
            <a:off x="4414680" y="5662080"/>
            <a:ext cx="5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5" name="Rectangle 107"/>
          <p:cNvSpPr/>
          <p:nvPr/>
        </p:nvSpPr>
        <p:spPr>
          <a:xfrm>
            <a:off x="569880" y="4352760"/>
            <a:ext cx="1117800" cy="1460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08"/>
          <p:cNvSpPr/>
          <p:nvPr/>
        </p:nvSpPr>
        <p:spPr>
          <a:xfrm>
            <a:off x="510840" y="47228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Straight Arrow Connector 112"/>
          <p:cNvCxnSpPr/>
          <p:nvPr/>
        </p:nvCxnSpPr>
        <p:spPr>
          <a:xfrm>
            <a:off x="1687680" y="5083200"/>
            <a:ext cx="12038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hat’s in a ROB Entry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28600" y="996480"/>
            <a:ext cx="861048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thing required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d26"/>
                </a:solidFill>
                <a:latin typeface="Tahoma"/>
              </a:rPr>
              <a:t>correctly reorder instruction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into the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update the architectural st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instruction’s result(s), if instruction can retire without any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andle an exception/interrupt precise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f an exception/interrupt needs to be handled before retiring the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valid bits to keep track of readiness of the result(s) and find out if the instruction has completed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0817-C8E9-4D55-88E4-4303AE21F7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536400" y="1411200"/>
            <a:ext cx="8271000" cy="461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542160" y="146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2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6"/>
          <p:cNvSpPr/>
          <p:nvPr/>
        </p:nvSpPr>
        <p:spPr>
          <a:xfrm flipH="1">
            <a:off x="87156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876960" y="1467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8"/>
          <p:cNvSpPr/>
          <p:nvPr/>
        </p:nvSpPr>
        <p:spPr>
          <a:xfrm flipH="1">
            <a:off x="19321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9"/>
          <p:cNvSpPr/>
          <p:nvPr/>
        </p:nvSpPr>
        <p:spPr>
          <a:xfrm>
            <a:off x="1932120" y="1467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stReg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0"/>
          <p:cNvSpPr/>
          <p:nvPr/>
        </p:nvSpPr>
        <p:spPr>
          <a:xfrm flipH="1">
            <a:off x="3060720" y="1411200"/>
            <a:ext cx="144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11"/>
          <p:cNvSpPr/>
          <p:nvPr/>
        </p:nvSpPr>
        <p:spPr>
          <a:xfrm>
            <a:off x="3060720" y="1465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4052160" y="146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tore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13"/>
          <p:cNvSpPr/>
          <p:nvPr/>
        </p:nvSpPr>
        <p:spPr>
          <a:xfrm flipH="1">
            <a:off x="404604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14"/>
          <p:cNvSpPr/>
          <p:nvPr/>
        </p:nvSpPr>
        <p:spPr>
          <a:xfrm flipH="1">
            <a:off x="5038200" y="141120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5"/>
          <p:cNvSpPr/>
          <p:nvPr/>
        </p:nvSpPr>
        <p:spPr>
          <a:xfrm>
            <a:off x="5152680" y="14954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16"/>
          <p:cNvSpPr/>
          <p:nvPr/>
        </p:nvSpPr>
        <p:spPr>
          <a:xfrm flipH="1">
            <a:off x="7625880" y="14097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17"/>
          <p:cNvSpPr/>
          <p:nvPr/>
        </p:nvSpPr>
        <p:spPr>
          <a:xfrm flipH="1">
            <a:off x="5758920" y="1415880"/>
            <a:ext cx="180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 flipH="1">
            <a:off x="5759280" y="1371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d26"/>
                </a:solidFill>
                <a:latin typeface="Arial"/>
                <a:ea typeface="Arial"/>
              </a:rPr>
              <a:t>Valid bits for reg/data + control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9"/>
          <p:cNvSpPr/>
          <p:nvPr/>
        </p:nvSpPr>
        <p:spPr>
          <a:xfrm>
            <a:off x="7668720" y="1473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xcep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Independent Operation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first written to ROB on instruction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written to register file at comm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a later operation needs a value in the reorder buff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reorder buffer in parallel with the register fi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H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927-00B3-4C3B-B9B2-988CA5C34D3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1176480" y="2503440"/>
            <a:ext cx="401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15778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1981080" y="2503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560700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8"/>
          <p:cNvGrpSpPr/>
          <p:nvPr/>
        </p:nvGrpSpPr>
        <p:grpSpPr>
          <a:xfrm>
            <a:off x="773280" y="2133720"/>
            <a:ext cx="4430520" cy="369720"/>
            <a:chOff x="773280" y="2133720"/>
            <a:chExt cx="4430520" cy="369720"/>
          </a:xfrm>
        </p:grpSpPr>
        <p:sp>
          <p:nvSpPr>
            <p:cNvPr id="725" name="Rectangle 5"/>
            <p:cNvSpPr/>
            <p:nvPr/>
          </p:nvSpPr>
          <p:spPr>
            <a:xfrm>
              <a:off x="773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"/>
            <p:cNvSpPr/>
            <p:nvPr/>
          </p:nvSpPr>
          <p:spPr>
            <a:xfrm>
              <a:off x="11757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7"/>
            <p:cNvSpPr/>
            <p:nvPr/>
          </p:nvSpPr>
          <p:spPr>
            <a:xfrm>
              <a:off x="15786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8"/>
            <p:cNvSpPr/>
            <p:nvPr/>
          </p:nvSpPr>
          <p:spPr>
            <a:xfrm>
              <a:off x="48013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>
              <a:off x="19814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7"/>
            <p:cNvSpPr/>
            <p:nvPr/>
          </p:nvSpPr>
          <p:spPr>
            <a:xfrm>
              <a:off x="23842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278712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318996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359280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399564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4398480" y="213372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0"/>
          <p:cNvSpPr/>
          <p:nvPr/>
        </p:nvSpPr>
        <p:spPr>
          <a:xfrm>
            <a:off x="15778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198108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2384280" y="287352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600876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8108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1"/>
          <p:cNvSpPr/>
          <p:nvPr/>
        </p:nvSpPr>
        <p:spPr>
          <a:xfrm>
            <a:off x="2384280" y="324180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2"/>
          <p:cNvSpPr/>
          <p:nvPr/>
        </p:nvSpPr>
        <p:spPr>
          <a:xfrm>
            <a:off x="27860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3"/>
          <p:cNvSpPr/>
          <p:nvPr/>
        </p:nvSpPr>
        <p:spPr>
          <a:xfrm>
            <a:off x="318924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27860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31892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3592440" y="398160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399564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31892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"/>
          <p:cNvSpPr/>
          <p:nvPr/>
        </p:nvSpPr>
        <p:spPr>
          <a:xfrm>
            <a:off x="359244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3995640" y="435456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4397400" y="435456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38428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7860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31892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4119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59244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399564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3974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48006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520380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5607000" y="361152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60087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>
            <a:off x="5203800" y="213372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2384280" y="2503440"/>
            <a:ext cx="4017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2786040" y="2873520"/>
            <a:ext cx="403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"/>
          <p:cNvSpPr/>
          <p:nvPr/>
        </p:nvSpPr>
        <p:spPr>
          <a:xfrm>
            <a:off x="6411960" y="32418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3"/>
          <p:cNvSpPr/>
          <p:nvPr/>
        </p:nvSpPr>
        <p:spPr>
          <a:xfrm>
            <a:off x="6815160" y="3611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3"/>
          <p:cNvSpPr/>
          <p:nvPr/>
        </p:nvSpPr>
        <p:spPr>
          <a:xfrm>
            <a:off x="7218360" y="3981600"/>
            <a:ext cx="401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7610400" y="434988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: How to Access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gister value can be in the register file, reorder buffer, (or bypass/forwarding path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EF2B-8111-4AE0-9B76-1F12DCE2BF6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3044880" y="219564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"/>
          <p:cNvSpPr/>
          <p:nvPr/>
        </p:nvSpPr>
        <p:spPr>
          <a:xfrm>
            <a:off x="3098160" y="250992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6056280" y="31766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6056280" y="3795840"/>
            <a:ext cx="111780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6056280" y="4378320"/>
            <a:ext cx="11178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9"/>
          <p:cNvSpPr/>
          <p:nvPr/>
        </p:nvSpPr>
        <p:spPr>
          <a:xfrm>
            <a:off x="6008400" y="3222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6031440" y="3819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1"/>
          <p:cNvSpPr/>
          <p:nvPr/>
        </p:nvSpPr>
        <p:spPr>
          <a:xfrm>
            <a:off x="6026760" y="44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3044880" y="4098960"/>
            <a:ext cx="1117440" cy="145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3089880" y="4417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14"/>
          <p:cNvSpPr/>
          <p:nvPr/>
        </p:nvSpPr>
        <p:spPr>
          <a:xfrm>
            <a:off x="7759800" y="340848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Straight Arrow Connector 15"/>
          <p:cNvCxnSpPr>
            <a:stCxn id="778" idx="3"/>
          </p:cNvCxnSpPr>
          <p:nvPr/>
        </p:nvCxnSpPr>
        <p:spPr>
          <a:xfrm>
            <a:off x="7173720" y="3408480"/>
            <a:ext cx="586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5" name="Straight Arrow Connector 16"/>
          <p:cNvCxnSpPr>
            <a:stCxn id="779" idx="3"/>
          </p:cNvCxnSpPr>
          <p:nvPr/>
        </p:nvCxnSpPr>
        <p:spPr>
          <a:xfrm>
            <a:off x="7196040" y="4003200"/>
            <a:ext cx="5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6" name="Straight Arrow Connector 17"/>
          <p:cNvCxnSpPr>
            <a:stCxn id="780" idx="3"/>
          </p:cNvCxnSpPr>
          <p:nvPr/>
        </p:nvCxnSpPr>
        <p:spPr>
          <a:xfrm flipV="1">
            <a:off x="7191000" y="4585680"/>
            <a:ext cx="5688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7" name="Straight Arrow Connector 18"/>
          <p:cNvCxnSpPr/>
          <p:nvPr/>
        </p:nvCxnSpPr>
        <p:spPr>
          <a:xfrm flipV="1">
            <a:off x="7759800" y="4002840"/>
            <a:ext cx="452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8" name="Straight Connector 19"/>
          <p:cNvSpPr/>
          <p:nvPr/>
        </p:nvSpPr>
        <p:spPr>
          <a:xfrm flipH="1">
            <a:off x="3600000" y="5557680"/>
            <a:ext cx="3240" cy="38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21"/>
          <p:cNvCxnSpPr/>
          <p:nvPr/>
        </p:nvCxnSpPr>
        <p:spPr>
          <a:xfrm flipV="1">
            <a:off x="3580200" y="36536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0" name="Straight Connector 22"/>
          <p:cNvSpPr/>
          <p:nvPr/>
        </p:nvSpPr>
        <p:spPr>
          <a:xfrm>
            <a:off x="5062680" y="3994200"/>
            <a:ext cx="4060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23"/>
          <p:cNvSpPr/>
          <p:nvPr/>
        </p:nvSpPr>
        <p:spPr>
          <a:xfrm>
            <a:off x="5468760" y="3419640"/>
            <a:ext cx="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24"/>
          <p:cNvCxnSpPr/>
          <p:nvPr/>
        </p:nvCxnSpPr>
        <p:spPr>
          <a:xfrm>
            <a:off x="5468760" y="340524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25"/>
          <p:cNvCxnSpPr/>
          <p:nvPr/>
        </p:nvCxnSpPr>
        <p:spPr>
          <a:xfrm>
            <a:off x="5492520" y="4001760"/>
            <a:ext cx="56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26"/>
          <p:cNvCxnSpPr/>
          <p:nvPr/>
        </p:nvCxnSpPr>
        <p:spPr>
          <a:xfrm>
            <a:off x="5468760" y="4583160"/>
            <a:ext cx="588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Rectangle 27"/>
          <p:cNvSpPr/>
          <p:nvPr/>
        </p:nvSpPr>
        <p:spPr>
          <a:xfrm>
            <a:off x="725400" y="2205000"/>
            <a:ext cx="1117800" cy="145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8"/>
          <p:cNvSpPr/>
          <p:nvPr/>
        </p:nvSpPr>
        <p:spPr>
          <a:xfrm>
            <a:off x="665640" y="2575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29"/>
          <p:cNvCxnSpPr/>
          <p:nvPr/>
        </p:nvCxnSpPr>
        <p:spPr>
          <a:xfrm>
            <a:off x="1843200" y="2935440"/>
            <a:ext cx="1202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798" name="Straight Connector 31"/>
          <p:cNvSpPr/>
          <p:nvPr/>
        </p:nvSpPr>
        <p:spPr>
          <a:xfrm flipH="1">
            <a:off x="2418840" y="2936880"/>
            <a:ext cx="1800" cy="1832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Straight Arrow Connector 34"/>
          <p:cNvCxnSpPr/>
          <p:nvPr/>
        </p:nvCxnSpPr>
        <p:spPr>
          <a:xfrm>
            <a:off x="2419200" y="4768920"/>
            <a:ext cx="62604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pic>
        <p:nvPicPr>
          <p:cNvPr id="800" name="Trapezoid 37" descr=""/>
          <p:cNvPicPr/>
          <p:nvPr/>
        </p:nvPicPr>
        <p:blipFill>
          <a:blip r:embed="rId1"/>
          <a:stretch/>
        </p:blipFill>
        <p:spPr>
          <a:xfrm>
            <a:off x="4737240" y="3543480"/>
            <a:ext cx="355320" cy="914400"/>
          </a:xfrm>
          <a:prstGeom prst="rect">
            <a:avLst/>
          </a:prstGeom>
          <a:ln w="0">
            <a:noFill/>
          </a:ln>
        </p:spPr>
      </p:pic>
      <p:cxnSp>
        <p:nvCxnSpPr>
          <p:cNvPr id="801" name="Straight Arrow Connector 39"/>
          <p:cNvCxnSpPr>
            <a:stCxn id="773" idx="3"/>
          </p:cNvCxnSpPr>
          <p:nvPr/>
        </p:nvCxnSpPr>
        <p:spPr>
          <a:xfrm>
            <a:off x="4161960" y="2925720"/>
            <a:ext cx="5864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2" name="Straight Arrow Connector 41"/>
          <p:cNvCxnSpPr>
            <a:stCxn id="781" idx="3"/>
          </p:cNvCxnSpPr>
          <p:nvPr/>
        </p:nvCxnSpPr>
        <p:spPr>
          <a:xfrm flipV="1">
            <a:off x="4161960" y="4162320"/>
            <a:ext cx="58644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3" name="Straight Connector 43"/>
          <p:cNvSpPr/>
          <p:nvPr/>
        </p:nvSpPr>
        <p:spPr>
          <a:xfrm flipH="1">
            <a:off x="8211600" y="4002120"/>
            <a:ext cx="1800" cy="19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45"/>
          <p:cNvSpPr/>
          <p:nvPr/>
        </p:nvSpPr>
        <p:spPr>
          <a:xfrm flipH="1">
            <a:off x="3603240" y="59421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47"/>
          <p:cNvSpPr/>
          <p:nvPr/>
        </p:nvSpPr>
        <p:spPr>
          <a:xfrm flipH="1">
            <a:off x="7759800" y="4584600"/>
            <a:ext cx="1440" cy="97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50"/>
          <p:cNvSpPr/>
          <p:nvPr/>
        </p:nvSpPr>
        <p:spPr>
          <a:xfrm flipH="1" flipV="1">
            <a:off x="4481640" y="5559480"/>
            <a:ext cx="32781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Straight Arrow Connector 52"/>
          <p:cNvCxnSpPr/>
          <p:nvPr/>
        </p:nvCxnSpPr>
        <p:spPr>
          <a:xfrm flipV="1">
            <a:off x="4481640" y="4377600"/>
            <a:ext cx="267120" cy="118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8" name="TextBox 53"/>
          <p:cNvSpPr/>
          <p:nvPr/>
        </p:nvSpPr>
        <p:spPr>
          <a:xfrm>
            <a:off x="5357880" y="51879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pass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4"/>
          <p:cNvSpPr/>
          <p:nvPr/>
        </p:nvSpPr>
        <p:spPr>
          <a:xfrm>
            <a:off x="1628640" y="472428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res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part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ent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41"/>
          <p:cNvSpPr/>
          <p:nvPr/>
        </p:nvSpPr>
        <p:spPr>
          <a:xfrm>
            <a:off x="4293360" y="2057400"/>
            <a:ext cx="36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andom Ac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ndexe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gister 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i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dress of an entr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view: 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ix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move it out of the wa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independent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424-ABF8-4096-B981-C858890F6B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533520" y="3429000"/>
            <a:ext cx="1295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implifying Reorder Buffer Acces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se in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gister file first (check if the register is val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register not valid, register file stores the ID of the reorder buffer entry that contains (or will contain) the value of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6000" indent="-2797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Mapping of the register to a ROB 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gister file maps the register to a reorder buffer entry if there is an in-flight instruction writing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order buffer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, reorder buffer does not need to be content address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234-CD57-47A2-9133-BCC8664DF9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in Intel Pentium III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F4D5-98F4-409E-BFA4-A6A521F77DF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786200" cy="563868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9"/>
          <p:cNvSpPr/>
          <p:nvPr/>
        </p:nvSpPr>
        <p:spPr>
          <a:xfrm>
            <a:off x="5638680" y="289548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ggs et al., 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 Microarchitecture of the Pentium 4 Proces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” Intel Technology Journa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Important: Register Renaming with a Reorder Buffer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nd anti dependencies are not true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Y? The same register refers to values that have nothing to do with each o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hey exist due to lack of register ID</a:t>
            </a:r>
            <a:r>
              <a:rPr b="1" lang="ja-JP" sz="2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 (i.e. names) in the I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register ID is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named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to the reorder buffer entry that will hold the register</a:t>
            </a:r>
            <a:r>
              <a:rPr b="0" lang="ja-JP" sz="2400" spc="-1" strike="noStrike">
                <a:solidFill>
                  <a:srgbClr val="0000ff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OB entry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register I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hysical register 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renaming, ROB entry ID used to refer to the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eliminates anti- and output-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Tahoma"/>
              </a:rPr>
              <a:t>Gives the illusion that there are a large number of regis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46C-B7CC-46AD-AC74-E356A49C48A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call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4663-9615-4DBE-A9DD-44D56623F58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81180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 (flow)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 -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naming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 file has a pointer to the reorder buffer entry that contains or will contain the value, if the register is not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works as described bef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is the latest definition of R3 for each instruction below in sequential or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0(0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D R3, R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1, R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 R3, R4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5, R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R7, R8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12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BAA-3AB5-4A60-A7EC-F4D76F1CEE0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-Order Pipeline with Reorder Buff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28600" y="996480"/>
            <a:ext cx="880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ecode (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ccess regfile/ROB, allocate entry in ROB, check if instruction can execute, if s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Execute (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structions can complete out-of-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mpletion (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rite resul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o reorder buf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etirement/Commit (W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heck for exceptions; if none, write result to architectural register file or memory; else, flush pipeline and start from exception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-order dispatch/execution, out-of-order completion, in-order retir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6777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2393-DE62-4D4F-BE6E-438AF54A846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4"/>
          <p:cNvGrpSpPr/>
          <p:nvPr/>
        </p:nvGrpSpPr>
        <p:grpSpPr>
          <a:xfrm>
            <a:off x="1795320" y="4782960"/>
            <a:ext cx="804960" cy="370080"/>
            <a:chOff x="1795320" y="4782960"/>
            <a:chExt cx="804960" cy="370080"/>
          </a:xfrm>
        </p:grpSpPr>
        <p:sp>
          <p:nvSpPr>
            <p:cNvPr id="834" name="Rectangle 10"/>
            <p:cNvSpPr/>
            <p:nvPr/>
          </p:nvSpPr>
          <p:spPr>
            <a:xfrm>
              <a:off x="179532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1"/>
            <p:cNvSpPr/>
            <p:nvPr/>
          </p:nvSpPr>
          <p:spPr>
            <a:xfrm>
              <a:off x="2197800" y="478296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2"/>
          <p:cNvSpPr/>
          <p:nvPr/>
        </p:nvSpPr>
        <p:spPr>
          <a:xfrm>
            <a:off x="3135240" y="3921120"/>
            <a:ext cx="401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3"/>
          <p:cNvSpPr/>
          <p:nvPr/>
        </p:nvSpPr>
        <p:spPr>
          <a:xfrm>
            <a:off x="8002440" y="461952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9"/>
          <p:cNvGrpSpPr/>
          <p:nvPr/>
        </p:nvGrpSpPr>
        <p:grpSpPr>
          <a:xfrm>
            <a:off x="3135240" y="4968720"/>
            <a:ext cx="3222720" cy="370080"/>
            <a:chOff x="3135240" y="4968720"/>
            <a:chExt cx="3222720" cy="370080"/>
          </a:xfrm>
        </p:grpSpPr>
        <p:sp>
          <p:nvSpPr>
            <p:cNvPr id="839" name="Rectangle 12"/>
            <p:cNvSpPr/>
            <p:nvPr/>
          </p:nvSpPr>
          <p:spPr>
            <a:xfrm>
              <a:off x="31352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"/>
            <p:cNvSpPr/>
            <p:nvPr/>
          </p:nvSpPr>
          <p:spPr>
            <a:xfrm>
              <a:off x="35380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"/>
            <p:cNvSpPr/>
            <p:nvPr/>
          </p:nvSpPr>
          <p:spPr>
            <a:xfrm>
              <a:off x="39409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"/>
            <p:cNvSpPr/>
            <p:nvPr/>
          </p:nvSpPr>
          <p:spPr>
            <a:xfrm>
              <a:off x="434376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2"/>
            <p:cNvSpPr/>
            <p:nvPr/>
          </p:nvSpPr>
          <p:spPr>
            <a:xfrm>
              <a:off x="474660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2"/>
            <p:cNvSpPr/>
            <p:nvPr/>
          </p:nvSpPr>
          <p:spPr>
            <a:xfrm>
              <a:off x="514944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2"/>
            <p:cNvSpPr/>
            <p:nvPr/>
          </p:nvSpPr>
          <p:spPr>
            <a:xfrm>
              <a:off x="555228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7"/>
            <p:cNvSpPr/>
            <p:nvPr/>
          </p:nvSpPr>
          <p:spPr>
            <a:xfrm>
              <a:off x="5955120" y="496872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8"/>
          <p:cNvGrpSpPr/>
          <p:nvPr/>
        </p:nvGrpSpPr>
        <p:grpSpPr>
          <a:xfrm>
            <a:off x="3135240" y="4437000"/>
            <a:ext cx="1611360" cy="374760"/>
            <a:chOff x="3135240" y="4437000"/>
            <a:chExt cx="1611360" cy="374760"/>
          </a:xfrm>
        </p:grpSpPr>
        <p:sp>
          <p:nvSpPr>
            <p:cNvPr id="848" name="Rectangle 12"/>
            <p:cNvSpPr/>
            <p:nvPr/>
          </p:nvSpPr>
          <p:spPr>
            <a:xfrm>
              <a:off x="3135240" y="444132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2"/>
            <p:cNvSpPr/>
            <p:nvPr/>
          </p:nvSpPr>
          <p:spPr>
            <a:xfrm>
              <a:off x="353808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2"/>
            <p:cNvSpPr/>
            <p:nvPr/>
          </p:nvSpPr>
          <p:spPr>
            <a:xfrm>
              <a:off x="394092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2"/>
            <p:cNvSpPr/>
            <p:nvPr/>
          </p:nvSpPr>
          <p:spPr>
            <a:xfrm>
              <a:off x="4343760" y="4437000"/>
              <a:ext cx="40284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3"/>
          <p:cNvGrpSpPr/>
          <p:nvPr/>
        </p:nvGrpSpPr>
        <p:grpSpPr>
          <a:xfrm>
            <a:off x="3135240" y="5338800"/>
            <a:ext cx="3900960" cy="523800"/>
            <a:chOff x="3135240" y="5338800"/>
            <a:chExt cx="3900960" cy="523800"/>
          </a:xfrm>
        </p:grpSpPr>
        <p:grpSp>
          <p:nvGrpSpPr>
            <p:cNvPr id="853" name="Group 24"/>
            <p:cNvGrpSpPr/>
            <p:nvPr/>
          </p:nvGrpSpPr>
          <p:grpSpPr>
            <a:xfrm>
              <a:off x="3135240" y="5492160"/>
              <a:ext cx="3222000" cy="370440"/>
              <a:chOff x="3135240" y="5492160"/>
              <a:chExt cx="3222000" cy="370440"/>
            </a:xfrm>
          </p:grpSpPr>
          <p:sp>
            <p:nvSpPr>
              <p:cNvPr id="854" name="Rectangle 12"/>
              <p:cNvSpPr/>
              <p:nvPr/>
            </p:nvSpPr>
            <p:spPr>
              <a:xfrm>
                <a:off x="313524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12"/>
              <p:cNvSpPr/>
              <p:nvPr/>
            </p:nvSpPr>
            <p:spPr>
              <a:xfrm>
                <a:off x="35377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12"/>
              <p:cNvSpPr/>
              <p:nvPr/>
            </p:nvSpPr>
            <p:spPr>
              <a:xfrm>
                <a:off x="39405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29"/>
              <p:cNvSpPr/>
              <p:nvPr/>
            </p:nvSpPr>
            <p:spPr>
              <a:xfrm>
                <a:off x="434340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2"/>
              <p:cNvSpPr/>
              <p:nvPr/>
            </p:nvSpPr>
            <p:spPr>
              <a:xfrm>
                <a:off x="474624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2"/>
              <p:cNvSpPr/>
              <p:nvPr/>
            </p:nvSpPr>
            <p:spPr>
              <a:xfrm>
                <a:off x="514908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5551920" y="5492160"/>
                <a:ext cx="40284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33"/>
              <p:cNvSpPr/>
              <p:nvPr/>
            </p:nvSpPr>
            <p:spPr>
              <a:xfrm>
                <a:off x="5954760" y="5492160"/>
                <a:ext cx="402480" cy="37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TextBox 25"/>
            <p:cNvSpPr/>
            <p:nvPr/>
          </p:nvSpPr>
          <p:spPr>
            <a:xfrm>
              <a:off x="6360120" y="53388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Straight Connector 34"/>
          <p:cNvSpPr/>
          <p:nvPr/>
        </p:nvSpPr>
        <p:spPr>
          <a:xfrm>
            <a:off x="2600280" y="4968720"/>
            <a:ext cx="24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35"/>
          <p:cNvSpPr/>
          <p:nvPr/>
        </p:nvSpPr>
        <p:spPr>
          <a:xfrm flipH="1">
            <a:off x="2843280" y="407988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Straight Arrow Connector 36"/>
          <p:cNvCxnSpPr/>
          <p:nvPr/>
        </p:nvCxnSpPr>
        <p:spPr>
          <a:xfrm>
            <a:off x="2844360" y="56865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6" name="Straight Arrow Connector 37"/>
          <p:cNvCxnSpPr/>
          <p:nvPr/>
        </p:nvCxnSpPr>
        <p:spPr>
          <a:xfrm>
            <a:off x="2844360" y="51526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7" name="Straight Arrow Connector 38"/>
          <p:cNvCxnSpPr/>
          <p:nvPr/>
        </p:nvCxnSpPr>
        <p:spPr>
          <a:xfrm>
            <a:off x="2852280" y="407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8" name="Straight Arrow Connector 39"/>
          <p:cNvCxnSpPr/>
          <p:nvPr/>
        </p:nvCxnSpPr>
        <p:spPr>
          <a:xfrm>
            <a:off x="2851200" y="46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9" name="Straight Connector 40"/>
          <p:cNvSpPr/>
          <p:nvPr/>
        </p:nvSpPr>
        <p:spPr>
          <a:xfrm flipH="1">
            <a:off x="7128000" y="4081320"/>
            <a:ext cx="144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41"/>
          <p:cNvCxnSpPr/>
          <p:nvPr/>
        </p:nvCxnSpPr>
        <p:spPr>
          <a:xfrm>
            <a:off x="7129080" y="4811760"/>
            <a:ext cx="23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1" name="Straight Arrow Connector 42"/>
          <p:cNvCxnSpPr>
            <a:stCxn id="836" idx="3"/>
          </p:cNvCxnSpPr>
          <p:nvPr/>
        </p:nvCxnSpPr>
        <p:spPr>
          <a:xfrm>
            <a:off x="3536640" y="4106880"/>
            <a:ext cx="3593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2" name="Straight Arrow Connector 43"/>
          <p:cNvCxnSpPr/>
          <p:nvPr/>
        </p:nvCxnSpPr>
        <p:spPr>
          <a:xfrm>
            <a:off x="4746240" y="4620960"/>
            <a:ext cx="2383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3" name="Straight Arrow Connector 44"/>
          <p:cNvCxnSpPr/>
          <p:nvPr/>
        </p:nvCxnSpPr>
        <p:spPr>
          <a:xfrm flipV="1">
            <a:off x="6357600" y="5152320"/>
            <a:ext cx="77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4" name="Straight Arrow Connector 45"/>
          <p:cNvCxnSpPr/>
          <p:nvPr/>
        </p:nvCxnSpPr>
        <p:spPr>
          <a:xfrm>
            <a:off x="6927840" y="5688000"/>
            <a:ext cx="202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5" name="TextBox 46"/>
          <p:cNvSpPr/>
          <p:nvPr/>
        </p:nvSpPr>
        <p:spPr>
          <a:xfrm>
            <a:off x="3669480" y="38322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47"/>
          <p:cNvSpPr/>
          <p:nvPr/>
        </p:nvSpPr>
        <p:spPr>
          <a:xfrm>
            <a:off x="4868280" y="422748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48"/>
          <p:cNvSpPr/>
          <p:nvPr/>
        </p:nvSpPr>
        <p:spPr>
          <a:xfrm>
            <a:off x="6359400" y="47829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49"/>
          <p:cNvSpPr/>
          <p:nvPr/>
        </p:nvSpPr>
        <p:spPr>
          <a:xfrm>
            <a:off x="6380280" y="5870520"/>
            <a:ext cx="12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/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3"/>
          <p:cNvSpPr/>
          <p:nvPr/>
        </p:nvSpPr>
        <p:spPr>
          <a:xfrm>
            <a:off x="7364520" y="4627440"/>
            <a:ext cx="403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51"/>
          <p:cNvCxnSpPr/>
          <p:nvPr/>
        </p:nvCxnSpPr>
        <p:spPr>
          <a:xfrm>
            <a:off x="7767720" y="4804920"/>
            <a:ext cx="235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Rectangle 13"/>
          <p:cNvSpPr/>
          <p:nvPr/>
        </p:nvSpPr>
        <p:spPr>
          <a:xfrm>
            <a:off x="2201760" y="5151600"/>
            <a:ext cx="403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order Buffer Tradeoff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ually simple for supporting precise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liminate false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order buffer needs to be accessed to get the results that are yet to be written to the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964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 or indire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creased latency and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964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olutions aim to eliminate the 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story buf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tur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2E5E-544A-46BF-BE3F-576A3DF160B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2908800" y="53341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 will not cover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4: Pipelining Issues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2"/>
          <p:cNvGraphicFramePr/>
          <p:nvPr/>
        </p:nvGraphicFramePr>
        <p:xfrm>
          <a:off x="860400" y="1773360"/>
          <a:ext cx="696744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773360"/>
                    <a:ext cx="696744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case of data dependence: </a:t>
            </a:r>
            <a:r>
              <a:rPr b="1" lang="en-US" sz="2400" spc="-1" strike="noStrike">
                <a:solidFill>
                  <a:srgbClr val="003e89"/>
                </a:solidFill>
                <a:latin typeface="Calibri"/>
              </a:rPr>
              <a:t>dependence on PC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beq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ch is not determined until the fourth stage of th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 after the branch are fetched before branch is res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predict that the next sequential instruction is fet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alled “Always not taken”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structions must be flushed if the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ch misprediction penalt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number of instructions flushed when branch is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reduced by determining branch earl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 Dependence: Original Pipe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160200" y="1295280"/>
          <a:ext cx="837432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1295280"/>
                    <a:ext cx="83743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Microsoft Office User</cp:lastModifiedBy>
  <cp:lastPrinted>2017-04-27T11:01:42Z</cp:lastPrinted>
  <dcterms:modified xsi:type="dcterms:W3CDTF">2020-03-30T15:05:20Z</dcterms:modified>
  <cp:revision>438</cp:revision>
  <dc:subject/>
  <dc:title>18-741  Advanced Computer Architecture Lecture 1: Intro and Basics</dc:title>
</cp:coreProperties>
</file>